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5F90-DD83-4590-9C48-3F7C3907A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64BB-7D70-4395-9C1A-940856E4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B165-0890-4AE4-9CEC-2DFCBDFC1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53E5-91E9-46E0-9499-F4149FF39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65EC-8438-45DE-806D-C2AC59322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A866-44CA-41DE-880C-B8C65E93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43A5-3C1E-4A9B-BFDE-9E18462D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8C20-C157-42C9-BCE5-3F6CA743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C8BC-9E1B-4186-9E81-504796EB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D5FB-DDAB-48E0-B904-B11CCF0A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AFD5-AC9B-46EB-9968-D2A2000F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6C5E-6C16-426D-A038-E5819BA8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B4B4-9E51-42E6-973D-EF5DCE6E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C9D8-A09B-450A-8EFC-1CDC9C44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D6D5-8793-403F-9C10-4CFD4680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62F2-3305-4641-8FF9-FA3CBC819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C7C7-BE31-4776-81CA-D7ADC6A10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AF7D-9504-4EE0-BAAA-73DFEF60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73CE-FA1E-4248-9438-A1A86E56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9DE0-23BE-4AA6-9A72-E9D8B5BA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D934-1CEE-4450-B364-9CC9F438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4F40-339D-400C-AED0-ABD2897C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B0AC-748E-4E97-8D5A-9833859B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0A0B-E00C-4BD4-B069-B2E09DA7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020B-D96E-476A-9297-1341FFFEB295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B5DC-5543-4487-AF09-0C73203EC7C0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hyperlink" Target="http://www.swordsandarmor.com/images/Knights_Templar_Shields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hyperlink" Target="http://www.newadvent.org/cathen/04543c.htm" TargetMode="External"/><Relationship Id="rId4" Type="http://schemas.openxmlformats.org/officeDocument/2006/relationships/hyperlink" Target="http://videos.howstuffworks.com/hsw/27306-civilizations-in-conflict-the-crusades-video.htm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hyperlink" Target="http://videos.howstuffworks.com/hsw/27306-civilizations-in-conflict-the-crusades-video.htm" TargetMode="External"/><Relationship Id="rId4" Type="http://schemas.openxmlformats.org/officeDocument/2006/relationships/hyperlink" Target="http://videos.howstuffworks.com/hsw/12187-the-medieval-era-crusades-to-the-middle-east-video.htm" TargetMode="External"/><Relationship Id="rId5" Type="http://schemas.openxmlformats.org/officeDocument/2006/relationships/image" Target="../media/image6.png"/><Relationship Id="rId6" Type="http://schemas.openxmlformats.org/officeDocument/2006/relationships/hyperlink" Target="http://www.swordsandarmor.com/images/Knights_Templar_Shields.JPG" TargetMode="External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../Crudsades-%20Cause%20and%20Effects-1.vwb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www.swordsandarmor.com/images/Knights_Templar_Shields.JPG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newadvent.org/cathen/04543c.htm" TargetMode="External"/><Relationship Id="rId3" Type="http://schemas.openxmlformats.org/officeDocument/2006/relationships/hyperlink" Target="http://www.swordsandarmor.com/images/Knights_Templar_Shields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newadvent.org/cathen/04543c.htm" TargetMode="External"/><Relationship Id="rId3" Type="http://schemas.openxmlformats.org/officeDocument/2006/relationships/hyperlink" Target="http://www.swordsandarmor.com/images/Knights_Templar_Shields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newadvent.org/cathen/04543c.htm" TargetMode="External"/><Relationship Id="rId3" Type="http://schemas.openxmlformats.org/officeDocument/2006/relationships/hyperlink" Target="http://www.swordsandarmor.com/images/Knights_Templar_Shields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newadvent.org/cathen/04543c.htm" TargetMode="External"/><Relationship Id="rId3" Type="http://schemas.openxmlformats.org/officeDocument/2006/relationships/hyperlink" Target="http://www.swordsandarmor.com/images/Knights_Templar_Shields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newadvent.org/cathen/04543c.htm" TargetMode="External"/><Relationship Id="rId3" Type="http://schemas.openxmlformats.org/officeDocument/2006/relationships/hyperlink" Target="http://www.swordsandarmor.com/images/Knights_Templar_Shields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hyperlink" Target="http://www.swordsandarmor.com/images/Knights_Templar_Shields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50720" y="603360"/>
            <a:ext cx="8242560" cy="1365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http://www.freemasonrywatch.org/pics/templars.jpg"/>
          <p:cNvPicPr/>
          <p:nvPr/>
        </p:nvPicPr>
        <p:blipFill>
          <a:blip r:embed="rId2"/>
          <a:stretch/>
        </p:blipFill>
        <p:spPr>
          <a:xfrm>
            <a:off x="685800" y="2171880"/>
            <a:ext cx="3382920" cy="4305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Knights_Templar_Shields.JPG (77615 bytes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70360" y="2133720"/>
            <a:ext cx="34592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Title 1" descr=""/>
          <p:cNvPicPr/>
          <p:nvPr/>
        </p:nvPicPr>
        <p:blipFill>
          <a:blip r:embed="rId2"/>
          <a:stretch/>
        </p:blipFill>
        <p:spPr>
          <a:xfrm>
            <a:off x="450720" y="225360"/>
            <a:ext cx="8242560" cy="8413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réhier, Louis. "Crusades." The Catholic Encyclopedia. Vol. 4. New York: Robert Appleton Company, 1908. 19 Nov. 2008 </a:t>
            </a:r>
            <a:r>
              <a:rPr b="0" lang="en-US" sz="2000" spc="-1" strike="noStrike" u="sng">
                <a:solidFill>
                  <a:srgbClr val="ad1f1f"/>
                </a:solidFill>
                <a:uFillTx/>
                <a:latin typeface="Book Antiqua"/>
                <a:hlinkClick r:id="rId3"/>
              </a:rPr>
              <a:t>http://www.newadvent.org/cathen/04543c.htm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ivilizations in Conflict. 2008.  How Stuff Works. </a:t>
            </a:r>
            <a:r>
              <a:rPr b="0" lang="en-US" sz="2000" spc="-1" strike="noStrike" u="sng">
                <a:solidFill>
                  <a:srgbClr val="ad1f1f"/>
                </a:solidFill>
                <a:uFillTx/>
                <a:latin typeface="Book Antiqua"/>
                <a:hlinkClick r:id="rId4"/>
              </a:rPr>
              <a:t>http://videos.howstuffworks.com/hsw/27306-civilizations-in-conflict-the-crusades-video.htm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rusades to the Middle East.  2008.  How Stuff Works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videos.howstuffworks.com/hsw/12187-the-medieval-era-crusades-to-the-middle-east-video.htm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rusades</a:t>
            </a:r>
            <a:r>
              <a:rPr b="0" i="1" lang="en-US" sz="2000" spc="-1" strike="noStrike">
                <a:solidFill>
                  <a:srgbClr val="ffffff"/>
                </a:solidFill>
                <a:latin typeface="Book Antiqua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2007.   Killeen Harker Heights Connections. http://www.killeenroos.com/2/CRUSCHAR.htm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7" name="Picture 2" descr="Knights_Templar_Shields.JPG (77615 bytes)"/>
          <p:cNvPicPr/>
          <p:nvPr/>
        </p:nvPicPr>
        <p:blipFill>
          <a:blip r:embed="rId5"/>
          <a:stretch/>
        </p:blipFill>
        <p:spPr>
          <a:xfrm>
            <a:off x="0" y="0"/>
            <a:ext cx="792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0" y="1447920"/>
            <a:ext cx="82296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atch a </a:t>
            </a:r>
            <a:r>
              <a:rPr b="0" lang="en-US" sz="2800" spc="-1" strike="noStrike" u="sng">
                <a:solidFill>
                  <a:srgbClr val="ad1f1f"/>
                </a:solidFill>
                <a:uFillTx/>
                <a:latin typeface="Book Antiqua"/>
                <a:hlinkClick r:id="rId3"/>
              </a:rPr>
              <a:t>video introducing the Crusade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atch a video on the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 u="sng">
                <a:solidFill>
                  <a:srgbClr val="ad1f1f"/>
                </a:solidFill>
                <a:uFillTx/>
                <a:latin typeface="Book Antiqua"/>
                <a:hlinkClick r:id="rId4"/>
              </a:rPr>
              <a:t>Crusades to the Middle Eas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at includes re-enactmen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d interview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7" name="Picture 2" descr="Templar Knights"/>
          <p:cNvPicPr/>
          <p:nvPr/>
        </p:nvPicPr>
        <p:blipFill>
          <a:blip r:embed="rId5"/>
          <a:stretch/>
        </p:blipFill>
        <p:spPr>
          <a:xfrm>
            <a:off x="5535720" y="2133720"/>
            <a:ext cx="3608280" cy="4390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Knights_Templar_Shields.JPG (77615 bytes)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0"/>
            <a:ext cx="792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2149560"/>
            <a:ext cx="8229600" cy="26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pen the </a:t>
            </a:r>
            <a:r>
              <a:rPr b="0" lang="en-US" sz="2800" spc="-1" strike="noStrike" u="sng">
                <a:solidFill>
                  <a:srgbClr val="ad1f1f"/>
                </a:solidFill>
                <a:uFillTx/>
                <a:latin typeface="Book Antiqua"/>
                <a:hlinkClick r:id="rId2"/>
              </a:rPr>
              <a:t>Virtual White Board Activity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reated by Robyn Thompson at CMHS.   As a class, organize the topics into the Cause and Effect char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1" name="Picture 3" descr="Knight Templar"/>
          <p:cNvPicPr/>
          <p:nvPr/>
        </p:nvPicPr>
        <p:blipFill>
          <a:blip r:embed="rId3"/>
          <a:stretch/>
        </p:blipFill>
        <p:spPr>
          <a:xfrm>
            <a:off x="3429000" y="3505320"/>
            <a:ext cx="2239920" cy="3124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Knights_Templar_Shields.JPG (77615 bytes)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792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55160" cy="1439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0" y="1599840"/>
            <a:ext cx="91440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answer the following questions, use the information that you have already learned or go to the </a:t>
            </a:r>
            <a:r>
              <a:rPr b="0" lang="en-US" sz="2800" spc="-1" strike="noStrike" u="sng">
                <a:solidFill>
                  <a:srgbClr val="ad1f1f"/>
                </a:solidFill>
                <a:uFillTx/>
                <a:latin typeface="Book Antiqua"/>
                <a:hlinkClick r:id="rId2"/>
              </a:rPr>
              <a:t>Catholic Encyclopedia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find the answers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 need a volunteer,…someone to come up and use the annotation pen to record the class answers to the question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meone else, be our class secretary and keep a written record on a piece of paper of what the first volunteer places on the virtual white boar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5" name="Picture 2" descr="Knights_Templar_Shields.JPG (77615 bytes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792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55160" cy="1439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0" y="1599840"/>
            <a:ext cx="91440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8320" indent="-282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d1f1f"/>
                </a:solidFill>
                <a:uFillTx/>
                <a:latin typeface="Book Antiqua"/>
                <a:hlinkClick r:id="rId2"/>
              </a:rPr>
              <a:t>Catholic Encyclopedia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(if needed for research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65088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65088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y did the Crusades occur?  Who started them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5088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685800" y="2971800"/>
            <a:ext cx="7848720" cy="3352680"/>
          </a:xfrm>
          <a:prstGeom prst="rect">
            <a:avLst/>
          </a:prstGeom>
          <a:solidFill>
            <a:srgbClr val="ddc0b6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9" name="Picture 2" descr="Knights_Templar_Shields.JPG (77615 bytes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792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55160" cy="1439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0" y="1599840"/>
            <a:ext cx="91440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8320" indent="-282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d1f1f"/>
                </a:solidFill>
                <a:uFillTx/>
                <a:latin typeface="Book Antiqua"/>
                <a:hlinkClick r:id="rId2"/>
              </a:rPr>
              <a:t>Catholic Encyclopedia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(if needed for research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65088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65088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o went on the Crusades?  Why did they go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5088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685800" y="2971800"/>
            <a:ext cx="7848720" cy="3352680"/>
          </a:xfrm>
          <a:prstGeom prst="rect">
            <a:avLst/>
          </a:prstGeom>
          <a:solidFill>
            <a:srgbClr val="ddc0b6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3" name="Picture 2" descr="Knights_Templar_Shields.JPG (77615 bytes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792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55160" cy="1439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0" y="1599840"/>
            <a:ext cx="91440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8320" indent="-282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d1f1f"/>
                </a:solidFill>
                <a:uFillTx/>
                <a:latin typeface="Book Antiqua"/>
                <a:hlinkClick r:id="rId2"/>
              </a:rPr>
              <a:t>Catholic Encyclopedia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(if needed for research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65088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65088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w did the Crusades effect the knights’ homeland? (Rulers, economy, citizen’s roles, etc.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5088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was the big impact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5088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685800" y="3581280"/>
            <a:ext cx="7848720" cy="2895840"/>
          </a:xfrm>
          <a:prstGeom prst="rect">
            <a:avLst/>
          </a:prstGeom>
          <a:solidFill>
            <a:srgbClr val="ddc0b6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7" name="Picture 2" descr="Knights_Templar_Shields.JPG (77615 bytes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792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55160" cy="1439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0" y="1599840"/>
            <a:ext cx="91440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8320" indent="-282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d1f1f"/>
                </a:solidFill>
                <a:uFillTx/>
                <a:latin typeface="Book Antiqua"/>
                <a:hlinkClick r:id="rId2"/>
              </a:rPr>
              <a:t>Catholic Encyclopedia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(if needed for research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65088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65088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d the Crusades succeed or fail?  Why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5088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685800" y="2971800"/>
            <a:ext cx="7848720" cy="3352680"/>
          </a:xfrm>
          <a:prstGeom prst="rect">
            <a:avLst/>
          </a:prstGeom>
          <a:solidFill>
            <a:srgbClr val="ddc0b6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1" name="Picture 2" descr="Knights_Templar_Shields.JPG (77615 bytes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792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itle 1" descr=""/>
          <p:cNvPicPr/>
          <p:nvPr/>
        </p:nvPicPr>
        <p:blipFill>
          <a:blip r:embed="rId2"/>
          <a:stretch/>
        </p:blipFill>
        <p:spPr>
          <a:xfrm>
            <a:off x="450720" y="103320"/>
            <a:ext cx="8255160" cy="1439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0" y="1599840"/>
            <a:ext cx="91440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5088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see some possible answers to the questions, go to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5088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Crusade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50880" indent="-5144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650880" indent="-514440">
              <a:spcBef>
                <a:spcPts val="601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y did the Crusades occur?  Who started them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650880" indent="-514440">
              <a:spcBef>
                <a:spcPts val="601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o went on the Crusades?  Why did they go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650880" indent="-514440">
              <a:spcBef>
                <a:spcPts val="601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ow did the Crusades effect the knights’ homeland? (Rulers, economy, citizen’s roles, etc.)  What was the big impact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650880" indent="-514440">
              <a:spcBef>
                <a:spcPts val="601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id the Crusades succeed or fail?  Why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650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4" name="Picture 2" descr="Knights_Templar_Shields.JPG (77615 bytes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792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8:28:49Z</dcterms:created>
  <dc:creator>CABELL BOE</dc:creator>
  <dc:description/>
  <dc:language>en-US</dc:language>
  <cp:lastModifiedBy>CABELL BOE</cp:lastModifiedBy>
  <dcterms:modified xsi:type="dcterms:W3CDTF">2008-11-19T21:50:23Z</dcterms:modified>
  <cp:revision>13</cp:revision>
  <dc:subject/>
  <dc:title>The Crusades</dc:title>
</cp:coreProperties>
</file>